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053B-9C04-48F7-8413-F280172E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CB3-1995-40AF-99CE-AA7B5015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E2550-6090-4805-B9F3-7DFC8B2A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5ABCC-431A-4A91-9BCE-3068E5DC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25325-5CBB-4B99-8B63-0D1BD93B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B9B27-6E0F-490B-90FD-96CFC757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FAE60-E3E1-4586-B1D6-9EE2CE5B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A90A0-B236-42F0-B75F-2FEDF68B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1452D-EB73-4C8C-9B4E-09C5FDDB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DB1E7-85F0-49EA-910F-ECC4AB6B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1E513-9003-47F7-9C61-640F4177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5D9DF-C236-4102-8242-0645FDB1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3FD7-A453-42E1-B041-B9232D82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14FE2-C96A-4670-8197-B78E510F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9F11C-93E6-4ACF-B3EE-6DB9B3F6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83100-1842-42AA-BF12-D3879998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3556E-2591-409F-AD4C-97B647F4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10938-DF45-4147-8A0A-F9D3255F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8AA3A-AB53-4BDD-894E-58AC250A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4CB2B-F10E-49CA-B9E8-85EA96E5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F9617-84B5-4167-A5BF-701C3F46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14A0D-14B4-4A94-8780-42DF8999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2B128-6CC8-42EC-8904-1554EEF7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516-ED9E-43F2-81DD-51B6AA3D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D5628-BBC1-4018-A016-AC629FC2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654DD-FF2F-4EE6-BC50-CB7EEE00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8D0E1-5158-485B-A202-3589E92B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4EAF2-CA56-480E-8EBC-5C14BFE8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E4F54-7CBC-4BC9-8E96-55661C3C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80A16-8EB1-4FCD-AA2D-5D787966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67968-1312-4137-AE88-2F7670D3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DBE1B-EE48-4B7F-9991-EBB4B4EB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D83E8-8FFB-4D9D-8C2C-D58E448C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728F4-91B3-4FBF-8429-68D7D12F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194D-FF38-4C0C-ADCA-39ECB209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ECEB0-AD98-4EED-9A01-BA2B6892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1B73C-EB02-43AF-9154-AE5D6248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2F7F6-F6D8-4516-ADB7-8FCB6F98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1F01A-D9DF-47D5-B56D-AB81F928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FF541-4196-4ADC-B0E8-805DAB53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EFEFE-776C-40C1-985F-D2D33614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47E77-196B-425C-B83F-319F7176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59DD8-ABB0-4218-86EB-28E796ED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2B2A2-DAE7-4B2B-972D-1ACFA647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237A9-983E-45C2-BF7E-D3DE01CB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5DD2-8D60-4A56-B523-46A9FF5A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386E8-A723-4D00-895A-3ACC1E62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4C927-A654-46E6-BBB8-DCFC7E2A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00C32-E71D-4297-8BDD-85CEC33C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D743C-A6C4-4755-BB94-EB795A2F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646A7-55BC-4446-A213-46EE9992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07EECB-CAF3-47C3-8B4D-80125F2D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A8059-8942-4EF4-8E74-2A32E546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575FB3-9727-4C59-9452-47A35E96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6348D7-6C62-41FA-B508-D180E7F0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A0630C-D64A-4193-AF95-55F10AA9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0720-50B4-464D-85C2-F0202B66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B0659-A59D-4FE4-B1C8-E3998F01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EA0FE3-9763-4BFD-BA5F-74CA22A1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D4661-120A-4E4A-8895-80493E8A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C01D69-B5F5-44F1-9F57-172A8947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AE3455-E5FA-48CB-A733-BA16FE54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051FD5-A498-4DD4-A59E-E75726FB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8D9BB-565B-490C-A92F-E070D879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10E36A-D33A-403A-97A5-8CAE6551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F77655-CE61-412F-B913-640D4AF0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F37DFE-0B60-4C04-A766-E9A8C8FF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25E2-1612-4B81-9908-15D38EE2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E460DE-C5DD-4A6B-AAE9-DCAA3A73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78D5C7-CE07-4963-BA55-9EE3B0BC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055F13-0EFE-4613-B6F4-FDC0E1A1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37F3EE-C709-4591-9C27-64BF0F5F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C027FD-0548-4DAB-9A26-D6D9F051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CBDDDB-F67D-4742-850C-2843A37B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EC9676-3B7B-48DF-A158-4BB4682A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9B3E7D-4CAE-4C4B-8C79-B948649E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B62A37-0EC1-4E34-96AD-A68DADD9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70FBE8-756B-46BC-BFF7-B5CDE779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B249-E66A-4C8A-B7D5-64C9246E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28719D-EE10-4302-BF0E-2B11BDA6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A43856-D649-44CA-BE85-78A2487E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C677BD-F4BD-49E1-BA25-661353B0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4A8473-49F5-46B5-9B6E-DFF6C469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9504ED-1840-41A3-9F49-308D31F6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C73598-7964-49D7-BDD0-A5C59505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7663A5-2467-44B9-85A0-E6285297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14AF9C-627D-48A4-9482-F1450B41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BAE4B4-63AF-47B9-AC94-B5AE6C38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E09286-1F3B-4F33-9EC6-DD1ACFC9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68A5-33E2-45F3-A362-3068B2A2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F32FFA-A315-4BDE-B1BD-E3CB62F1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A952A6-69D3-4181-A8D7-151C9E88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6C8056-97F3-4C81-A226-7D4824AA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69F7CD-69DB-4F02-BFF3-A80EEA36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275F0B-A732-4AA4-8E87-AE61E570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79895E-380F-4EA8-B58C-C8F1E8D0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381B2B-40F0-42E0-9504-0F39E3A5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83EED7-EA69-4D38-B18E-F3E8EF77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90121D-670F-4F3E-8A5B-5593AC1A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CF29F1-1BB6-4EF0-A451-B6F4EF42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3BB1-4FA7-4ADD-A55A-FBA0ECF3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F9FC18-7C19-4770-9E17-3F8671CB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FF9F99-8C81-451C-A596-A88A29F9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1DEB03-F23E-4887-9DF8-D3712856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942911-5B47-43B1-8AA5-CDA97B4B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C54AD2-E654-4A93-B027-9E802C2D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81DDAD-E468-4BCB-A83E-4197696C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353C75-BF0A-4B04-AE08-E5D3AA94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1A57E7-AD06-40F8-95ED-2CC49616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4042BE-C9C1-42CE-89BA-5DBC8F7C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8917CC-DE2D-419C-BF10-C9A561A2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DD1-8D16-4997-AD92-0859BB60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DCF4-F246-48A7-8172-A271E02A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B4BB7A-78C5-48D7-9109-427F8084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2E830C-BBFE-49BD-B31A-B6967447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BC0DE6-87B5-47D9-B012-1ED46236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ABA571-92EF-4DEF-BE2A-E1424AA8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4DD0C0-E59F-4F7A-B590-BF9FC782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E583B3-9CB4-4AD2-BC1C-2333AFFA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DF3371-0057-49DC-AFA3-6A00294B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745B87-CDDF-4133-AF12-F915245D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22B726-941F-478B-B13A-3D792CAD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96B429-FD13-4A27-ADD7-23B7FAFE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7F6C-A05E-4428-BE63-6281BEB9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13C844-56F4-4CD6-9BEC-431F8DA0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2914C1-2E2B-4BF2-9931-33BE15D5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293EBF-3D06-4BEC-92E0-0AAF0F3F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2AE2DB-6D63-4392-86A8-ECCCE24B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7BE11A-FC82-40C8-BEF7-66C84B3D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B3A739-4767-406E-B922-96B97363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9D9AD6-E367-4110-81E2-9E376552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D2E698-CB90-4C89-8997-D98A576C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A1BF34-339B-4D3E-9255-49E11CA3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CAC6D0-AF28-43C3-B6A1-130FD0CE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A7D0-0663-4BDF-B547-18AB3F42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ECBE2E-5901-4244-B43A-3E35F3E9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3B8B79-E38F-4510-B6DE-9D3E306B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998803-B9D8-4DB1-8010-BAA5C72F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556A19-7989-43E0-B4FA-4A995CDF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80FB15-0D78-4FDC-929C-A6408FD1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B6220C-1E68-47AB-8D21-11BC90B3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3283D1-B674-4740-8193-DF606B60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E64747-1468-4F96-BDAA-6A6AD5DA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580747-FAA0-423A-92B7-4CEBD638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C96256-8768-47C5-B524-C56AF933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DB3C-1432-476D-9908-17BC0BB4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3C72A9-9260-4CA8-B9BA-AD235FAE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A92747-A046-4D1E-AA0F-5FCE4C14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E3B2BF-B996-4BFA-9F6B-B8B8A9CC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AC7F82-195C-4136-93ED-D266D90E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55148B-D744-45D0-9A03-4ADCE341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317BA5-0EDB-4FB9-8B27-B2A7F1F0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2C1103-F964-416B-BA14-232FF33C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0F39FE-88D1-4DC0-8AE2-2039136A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4F2472-9BA2-4C23-ADE7-8EC2AB61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E7B648-ECC5-444B-9207-4C766728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70CE-60ED-439C-96E0-96700CD7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A125E2-121A-4A9A-8E7E-561AAEDA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9DEFEA-79B4-48F1-BC86-19B39477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57B0C0-91EA-4B5B-B6DF-5B3EBAE2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E2CB8E-ABE9-43F7-B8B1-7A46A535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E7D24E-39A6-44EF-B535-1A9D5170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57B717-B0C4-475E-BD57-6F470518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3F2C64-0161-41A8-9628-D04BC661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6D52E0-90DE-4B36-BE7C-B3887740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9DD944-8E90-4E4D-ABE0-E9A84513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A43E6D-EBC1-4243-ADF5-F196D535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E5A9B-BB18-4797-80E6-0078C641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CB453C-ADEF-4177-9E7A-8905C360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E2856A-D9C4-4F6D-BFDA-DF22C48E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BB0000-00E6-45B8-A052-AE0CAA7F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DC789-C0B9-40BC-AD84-28BA3013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9D3F9-404D-4D32-8FDB-4AF7CA33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575FC-A04A-49AB-A400-2C0F59FB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DA181-7894-4BE4-A633-2BE4A6BC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DEE-ADAA-40BB-9651-0D37C8C4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FBF13-DCAF-49E4-B5D9-AEFFD2BC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CD420-A128-42EA-A237-9395ED8B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D4AA9-114E-4795-B23F-2DBFE1FC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C14BD-2016-496D-8C2C-47E29DEA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AFD0C-21A4-47BA-A96D-37F000A3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EF26F-04FF-406E-8F12-3C1E2CA7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57C37-6173-454E-8BFD-4599D089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D84D4-13A9-4C74-B7DF-C5BE313F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3A425-3174-4F61-A649-B729B73B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F6CBC-005F-4DB6-9773-38EAFD8D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59F-ED4C-4BC6-A219-8E461F1D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BCEDA-1911-471F-B336-9CAD0DC4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D7EEE-500B-4CEB-B142-BC4E4102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19C7C-EDC6-4D59-9CF7-2FBBFEAF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B709E-656B-4133-ACA8-3C59F6C1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F5B72-F8D3-4CFD-8CAF-FA4EF183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7C599-116E-4F53-BB86-3D9903CC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6438C-562A-48E4-9724-C9E564C4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12F89-9AB6-42D7-9293-1BD689AF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8BB9D-7AA3-4443-8A39-1EB6A73B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8F684-8BEB-4E0E-BC67-F2B439F6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713-E35C-4037-9D71-322BC42E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F5C28-DA14-4E60-8C93-4E8CEF2F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84D0B-DD1D-4DDA-9A29-4909FC82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21791-9398-4CB5-879B-34961D26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7CDE5-1F90-43CB-9E44-7EB1F7FE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82E06-CE02-42C4-9CA0-A14B19CE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02A6A-D4EB-4B2A-B83E-34164641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7FDBD-5E4D-41AF-BF16-D1346F56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82F18-CA9E-4017-AE6A-A0CFA9F2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26D68-71EF-4F3D-A91C-847A87CA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EFA22-BF54-40D2-A28E-A2D8A25B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DB6C-90D3-49D6-B782-654DC230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7B9AB-F47B-4725-A05D-867B134C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D2457-A80B-4C2B-B6DA-3C423301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15871-7C4A-4F93-A6CC-9DCB5463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22109-33CF-4AE1-9731-88D487CC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483C8-DA23-42B1-B618-A011A358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0E173-2FE9-4B83-ACD5-F0C37F6D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B703D-8292-43E9-A914-57A296B7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1E419-252E-4BE6-977E-92D62387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ACBF9-B4E0-4ED2-8EF7-3DDD710B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1FAC7-83AE-4F01-8699-68B5CF62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B307-C4A5-476E-86F0-76E17E66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DA9F3-8825-4A8C-A1C8-3BA7F0F3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DA7B9-B2BE-4883-AE64-5ECF5EAE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D6968-A394-4D85-9C03-24CAFCEB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4B5FE-FA59-46A3-BC20-C2C073DA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49360-35D0-43B0-A4FE-A9531C42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4618E-A931-44E5-8FE1-ACF3FCDF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39C2B-0EAD-4641-A354-05E5B7E9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1881A-0D7E-48FE-B6A5-4E954BCF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B56A0-FB0D-4230-A34B-8ACB555E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0E1CA-108C-417B-8775-6C409BD1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3F92-5C47-4B15-823A-8E379DB1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538A2-E951-40A0-B012-D110B9FD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ECF04-BAA3-4BCE-8C48-397ACD59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EFB3A-CA5D-424F-B01C-7FB4DDB2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CB02E-F96E-4F8C-A768-D7B0118B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9FE69-43AE-42B5-9F30-7FBA9F8D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6A543-8B95-45EF-AF23-3B3FA592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A2094-BBC2-4E1F-B014-A575D79F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26242-AF64-4282-A188-78D9D55C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6A08B-4A3D-4CD8-B758-8134A504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08A21-70AF-402B-8074-759BE013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CA99-F3BB-48D4-BA8E-51240A67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22A7B-31F4-416A-9645-F7FD5CDF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4FAFA-6027-49AC-8E8F-2F744DD6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F5759-3754-4879-B7FB-70CE435A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3901F-A593-4EC3-9544-0C96DF8E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8930B-AFE2-4EF2-8C6C-E9F2299F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D8983-B166-422A-AFD2-1F611A17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7CB76-C308-4934-A587-0FFBA150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5AFB1-1023-4058-9FDB-6BA0068D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C36D9-74EC-4E93-8FE1-784B9108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C130C-7FE9-4704-8977-683F4750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A6D1-57BA-45AF-823A-8DBFBD40E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9F31-FC0D-4AB9-AD35-31E0771FC2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E993-1D0C-4C57-88D3-183E6D839F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37B0-484C-4CA9-AD95-B6D55C8BBD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164C-F00E-4E44-95B4-BDEFBACA31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4B01-1A13-48B5-A509-36887611F0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9C61-9B17-47BE-B5E7-0AF3ED75AB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8548-189D-4461-A2B4-70630D9F24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AF38-F382-4A25-9AF7-B2CAF5AC94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00F3-9C92-42FA-8EE5-13AE51A40F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FB5A-E50B-431B-8A17-68F3C756A1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D363-24F3-43CF-88C8-57D06E2D2A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21A6-AF70-4BB7-BB40-F7A4C84646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BA51-5434-43BC-B26E-7DADB54C09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D7CC-3950-4E2E-A62D-6AB9DCA8FD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578B-A0A9-43B3-A7D9-4CD76D1300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7241-2A5E-4873-9CA9-8F2BE7E22B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F034-523D-4494-9556-54C0FB98AF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5103-CB9D-4557-B8D7-510E362BB0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E5B5-B146-43D1-8F98-743F07BD03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0D10-BECF-41FC-8903-CB8E65AE1F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B272-C1B1-4E08-9E9E-5B9ACE5A8C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BA50-4457-48B7-A5C5-F1F568130B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E03F-1ED7-47C9-BED4-BA0F933888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0FC6-CA9F-4723-9C5C-4130ED604C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8B58-B9CB-4CBD-95F7-CDD0F79CE2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5A18-1696-4F9A-9A14-A1F2B26A17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98E7-AC17-4872-9EEB-B36C87659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A414-3E45-40AC-B219-49470C2147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3581-A70B-4DA1-AFC9-59DB56202E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D1F5-2B80-4CBB-A21F-3178C41BB1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8575-1132-4ED5-875D-C6D9312F13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9A61-254E-42D6-948F-60BF5B8A2E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AAEE-63A7-4256-BF18-81D253CBCD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4AEC-ECA2-4FED-91C1-3F14285E38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46E6-3759-45E3-AA12-455148660A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C823-84D2-4104-8EF7-0A4215179A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D8D2-E372-494D-9337-04F6B3962E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C4B5-5AB5-4FCF-BA4F-81185DDA79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3AC8-D494-44AD-86D2-E4C01B824E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28520" y="2610000"/>
            <a:ext cx="888840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4100" descr=""/>
          <p:cNvPicPr/>
          <p:nvPr/>
        </p:nvPicPr>
        <p:blipFill>
          <a:blip r:embed="rId2"/>
          <a:stretch/>
        </p:blipFill>
        <p:spPr>
          <a:xfrm>
            <a:off x="176040" y="1690560"/>
            <a:ext cx="8791920" cy="3476880"/>
          </a:xfrm>
          <a:prstGeom prst="rect">
            <a:avLst/>
          </a:prstGeom>
          <a:ln w="0">
            <a:noFill/>
          </a:ln>
        </p:spPr>
      </p:pic>
      <p:sp>
        <p:nvSpPr>
          <p:cNvPr id="1029" name="直接连接符 4101"/>
          <p:cNvSpPr/>
          <p:nvPr/>
        </p:nvSpPr>
        <p:spPr>
          <a:xfrm>
            <a:off x="2700360" y="2997360"/>
            <a:ext cx="2808360" cy="431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直接连接符 4102"/>
          <p:cNvSpPr/>
          <p:nvPr/>
        </p:nvSpPr>
        <p:spPr>
          <a:xfrm>
            <a:off x="3621240" y="3500280"/>
            <a:ext cx="1958760" cy="9367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直接连接符 4103"/>
          <p:cNvSpPr/>
          <p:nvPr/>
        </p:nvSpPr>
        <p:spPr>
          <a:xfrm>
            <a:off x="3376440" y="4005360"/>
            <a:ext cx="2132280" cy="9363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直接连接符 4104"/>
          <p:cNvSpPr/>
          <p:nvPr/>
        </p:nvSpPr>
        <p:spPr>
          <a:xfrm flipV="1">
            <a:off x="2987640" y="2997360"/>
            <a:ext cx="2521080" cy="1511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直接连接符 4105"/>
          <p:cNvSpPr/>
          <p:nvPr/>
        </p:nvSpPr>
        <p:spPr>
          <a:xfrm flipV="1">
            <a:off x="3348000" y="3933720"/>
            <a:ext cx="2160720" cy="10778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109440" y="816120"/>
            <a:ext cx="8923320" cy="59720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1042920" y="4869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1042920" y="58053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547560" y="1419120"/>
            <a:ext cx="8047080" cy="40197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505080" cy="4489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3492360" y="24210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2340000" y="2924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2340000" y="44085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561960" y="2228760"/>
            <a:ext cx="80200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1:47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